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6DA9-B7F2-4F23-8C97-34471E14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DEB1-852B-4E29-88A7-07CFD9BD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2769-971C-4AF2-8557-4DD53450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3B01-A9E6-4837-89A5-1F971BA99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04DB-B722-445A-874D-92EFBE06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8AD3-032E-4313-BD37-4CBD20E8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C7B2-C47F-4BFA-9323-C1690849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9CD6-B30D-4331-8764-486AA678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F798-6BE3-4CB0-A36C-234D1D99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C8A6-0AA7-4747-AE65-EF4D88C5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19F1-43C8-4CA0-BD28-15D863DD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11FA-E1D1-44B6-8BB4-39700CA6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82A7-C25F-4EB7-8EA8-249B849E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D301-A4E4-469B-82AA-0BD63911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0258-9F16-4A79-8249-A659E79B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B4C6-43FA-4916-A176-7B8B1B86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F7CF-A91C-4D17-ACFB-D79006CC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2469-EE22-4D42-AB7F-64B81684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1708-3B08-494F-881C-981E1ECA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138D-6FCD-4802-9525-D0B8DC91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D998-3DA5-4B8F-840D-59CE51CD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DB2B-4CB3-47BF-A5F1-158832B4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F9B2-E753-47CF-8C30-97614285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12AC-2868-4F7D-B5F2-6D1641C4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7AF1-F591-43F9-B99B-35A7042A2E4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ADE0-4F40-49A5-AC44-2D18E352A66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8520120" cy="2703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Квадратные уравнения</a:t>
            </a:r>
            <a:br>
              <a:rPr sz="4000"/>
            </a:b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или</a:t>
            </a:r>
            <a:br>
              <a:rPr sz="4000"/>
            </a:b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«Чем больше знаешь, тем быстрей считаешь»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Теорема Виет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9360">
            <a:solidFill>
              <a:srgbClr val="ffb8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х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+ рх +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 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Х</a:t>
            </a:r>
            <a:r>
              <a:rPr b="0" lang="en-US" sz="3600" spc="-1" strike="noStrike" baseline="-25000">
                <a:solidFill>
                  <a:srgbClr val="ffb800"/>
                </a:solidFill>
                <a:latin typeface="Comic Sans MS"/>
              </a:rPr>
              <a:t>1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Х</a:t>
            </a:r>
            <a:r>
              <a:rPr b="0" lang="en-US" sz="3600" spc="-1" strike="noStrike" baseline="-25000">
                <a:solidFill>
                  <a:srgbClr val="ffb8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=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-Р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Х</a:t>
            </a:r>
            <a:r>
              <a:rPr b="0" lang="en-US" sz="3600" spc="-1" strike="noStrike" baseline="-25000">
                <a:solidFill>
                  <a:srgbClr val="ffb800"/>
                </a:solidFill>
                <a:latin typeface="Comic Sans MS"/>
              </a:rPr>
              <a:t>1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 •Х</a:t>
            </a:r>
            <a:r>
              <a:rPr b="0" lang="en-US" sz="3600" spc="-1" strike="noStrike" baseline="-25000">
                <a:solidFill>
                  <a:srgbClr val="ffb8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=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q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611280" y="2205000"/>
          <a:ext cx="7561080" cy="3002040"/>
        </p:xfrm>
        <a:graphic>
          <a:graphicData uri="http://schemas.openxmlformats.org/drawingml/2006/table">
            <a:tbl>
              <a:tblPr/>
              <a:tblGrid>
                <a:gridCol w="2011320"/>
                <a:gridCol w="596880"/>
                <a:gridCol w="395280"/>
                <a:gridCol w="512640"/>
                <a:gridCol w="585720"/>
                <a:gridCol w="587520"/>
                <a:gridCol w="877680"/>
                <a:gridCol w="1100160"/>
                <a:gridCol w="89388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х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х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х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х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0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4х=0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=0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5=0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х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=0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х+21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 txBox="1"/>
          <p:nvPr/>
        </p:nvSpPr>
        <p:spPr>
          <a:xfrm>
            <a:off x="539640" y="404640"/>
            <a:ext cx="655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Как поняли"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796000" y="5877000"/>
            <a:ext cx="2952720" cy="934200"/>
            <a:chOff x="5796000" y="5877000"/>
            <a:chExt cx="2952720" cy="934200"/>
          </a:xfrm>
        </p:grpSpPr>
        <p:sp>
          <p:nvSpPr>
            <p:cNvPr id="217" name="Tree">
              <a:hlinkClick r:id="rId1" action="ppaction://hlinksldjump"/>
            </p:cNvPr>
            <p:cNvSpPr/>
            <p:nvPr/>
          </p:nvSpPr>
          <p:spPr>
            <a:xfrm>
              <a:off x="5796000" y="5877000"/>
              <a:ext cx="934920" cy="730080"/>
            </a:xfr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32720" y="6093000"/>
              <a:ext cx="2016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baseline="-25000">
                  <a:solidFill>
                    <a:srgbClr val="00b200"/>
                  </a:solidFill>
                  <a:latin typeface="Comic Sans MS"/>
                </a:rPr>
                <a:t>к задания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539640" y="404640"/>
            <a:ext cx="655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Вспомнить все!"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1484280"/>
            <a:ext cx="828036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ждой паре предлагается ответить на следующие 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Определение квадратного у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Виды квадратных урав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Что называется дискриминантом квадратного уравн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От чего зависит количество корней квадратного уравн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Каковы формулы для нахождения корней квадратного уравн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. Формулировка теоремы Ви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796000" y="5877000"/>
            <a:ext cx="2952720" cy="934200"/>
            <a:chOff x="5796000" y="5877000"/>
            <a:chExt cx="2952720" cy="934200"/>
          </a:xfrm>
        </p:grpSpPr>
        <p:sp>
          <p:nvSpPr>
            <p:cNvPr id="222" name="Tree">
              <a:hlinkClick r:id="rId1" action="ppaction://hlinksldjump"/>
            </p:cNvPr>
            <p:cNvSpPr/>
            <p:nvPr/>
          </p:nvSpPr>
          <p:spPr>
            <a:xfrm>
              <a:off x="5796000" y="5877000"/>
              <a:ext cx="934920" cy="730080"/>
            </a:xfr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32720" y="6093000"/>
              <a:ext cx="2016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baseline="-25000">
                  <a:solidFill>
                    <a:srgbClr val="00b200"/>
                  </a:solidFill>
                  <a:latin typeface="Comic Sans MS"/>
                </a:rPr>
                <a:t>к задания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7696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дачи на квадратные уравнения встречаются в труда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дийских математиков уже с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ка нашей эры. Вот од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з задач индийского математик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II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ка Бхаскар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езьянок резвых стая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ласть поевши, развлекалас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х в квадрате часть восьма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поляне забавлялас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двенадцать по лианам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али прыгать, повисая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колько ж было обезьянок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 скажите, в этой стае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1547640" y="170028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11280" y="260280"/>
            <a:ext cx="66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Письмо из прошлого"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796000" y="5877000"/>
            <a:ext cx="2952720" cy="934200"/>
            <a:chOff x="5796000" y="5877000"/>
            <a:chExt cx="2952720" cy="934200"/>
          </a:xfrm>
        </p:grpSpPr>
        <p:sp>
          <p:nvSpPr>
            <p:cNvPr id="228" name="Tree">
              <a:hlinkClick r:id="rId1" action="ppaction://hlinksldjump"/>
            </p:cNvPr>
            <p:cNvSpPr/>
            <p:nvPr/>
          </p:nvSpPr>
          <p:spPr>
            <a:xfrm>
              <a:off x="5796000" y="5877000"/>
              <a:ext cx="934920" cy="730080"/>
            </a:xfr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32720" y="6093000"/>
              <a:ext cx="2016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baseline="-25000">
                  <a:solidFill>
                    <a:srgbClr val="00b200"/>
                  </a:solidFill>
                  <a:latin typeface="Comic Sans MS"/>
                </a:rPr>
                <a:t>к задания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539640" y="404640"/>
            <a:ext cx="655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Эрудит"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21142" t="32259" r="17576" b="23900"/>
          <a:stretch/>
        </p:blipFill>
        <p:spPr>
          <a:xfrm>
            <a:off x="395280" y="1415880"/>
            <a:ext cx="7993080" cy="414180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5796000" y="5877000"/>
            <a:ext cx="2952720" cy="934200"/>
            <a:chOff x="5796000" y="5877000"/>
            <a:chExt cx="2952720" cy="934200"/>
          </a:xfrm>
        </p:grpSpPr>
        <p:sp>
          <p:nvSpPr>
            <p:cNvPr id="233" name="Tree">
              <a:hlinkClick r:id="rId2" action="ppaction://hlinksldjump"/>
            </p:cNvPr>
            <p:cNvSpPr/>
            <p:nvPr/>
          </p:nvSpPr>
          <p:spPr>
            <a:xfrm>
              <a:off x="5796000" y="5877000"/>
              <a:ext cx="934920" cy="730080"/>
            </a:xfr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32720" y="6093000"/>
              <a:ext cx="2016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baseline="-25000">
                  <a:solidFill>
                    <a:srgbClr val="00b200"/>
                  </a:solidFill>
                  <a:latin typeface="Comic Sans MS"/>
                </a:rPr>
                <a:t>к задания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71640" y="2997360"/>
            <a:ext cx="720072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Дидактические це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696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Формирование навыков работы в групп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Приобретение навыков самостоятельной работы с большим объемом информа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Формирование умений увидеть проблему и наметить пути ее реш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Формирование умений составлять алгоритмы для способов реш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Формирование выбора рационального  способа решения квадратных  уравнен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Формирование умений решать квадратное уравнение не одним способом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Основополагающий вопрос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Сколькими  способами можешь решить квадратное уравнение?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Проблемные вопрос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Что называется квадратным уравнением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Какие есть виды квадратных уравнений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Как выбрать рациональный способ решения квадратного уравнени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Вопросы из истории развития квадратных уравнений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Сколькими способами можешь решить квадратное уравнени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х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вх+с =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ерв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эффициен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торой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эффициен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вободный чле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0" name=""/>
          <p:cNvCxnSpPr>
            <a:stCxn id="159" idx="1"/>
          </p:cNvCxnSpPr>
          <p:nvPr/>
        </p:nvCxnSpPr>
        <p:spPr>
          <a:xfrm>
            <a:off x="685800" y="365760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916360" y="1628640"/>
            <a:ext cx="287280" cy="976320"/>
          </a:xfrm>
          <a:prstGeom prst="downArrow">
            <a:avLst>
              <a:gd name="adj1" fmla="val 50000"/>
              <a:gd name="adj2" fmla="val 8496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1700280"/>
            <a:ext cx="288720" cy="1584360"/>
          </a:xfrm>
          <a:prstGeom prst="downArrow">
            <a:avLst>
              <a:gd name="adj1" fmla="val 50000"/>
              <a:gd name="adj2" fmla="val 13718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48360" y="1700280"/>
            <a:ext cx="288720" cy="2016000"/>
          </a:xfrm>
          <a:prstGeom prst="downArrow">
            <a:avLst>
              <a:gd name="adj1" fmla="val 50000"/>
              <a:gd name="adj2" fmla="val 17456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50920" y="3933720"/>
            <a:ext cx="3313080" cy="1368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6264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ИДЫ КВАДРАТНЫХ УРАВНЕНИ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21080" y="2624040"/>
                <a:ext cx="106200" cy="1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521080" y="4514760"/>
                <a:ext cx="106200" cy="1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63560" y="4005360"/>
                <a:ext cx="19526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3492360" y="1341360"/>
            <a:ext cx="2737080" cy="1152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635280" y="1700280"/>
          <a:ext cx="2395800" cy="4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700280"/>
                    <a:ext cx="23958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164360" y="5877000"/>
            <a:ext cx="1441440" cy="649080"/>
            <a:chOff x="7164360" y="5877000"/>
            <a:chExt cx="1441440" cy="649080"/>
          </a:xfrm>
        </p:grpSpPr>
        <p:sp>
          <p:nvSpPr>
            <p:cNvPr id="176" name=""/>
            <p:cNvSpPr/>
            <p:nvPr/>
          </p:nvSpPr>
          <p:spPr>
            <a:xfrm>
              <a:off x="7164360" y="5877000"/>
              <a:ext cx="1441440" cy="6490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7453080" y="6021360"/>
                  <a:ext cx="9352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" name=""/>
          <p:cNvGrpSpPr/>
          <p:nvPr/>
        </p:nvGrpSpPr>
        <p:grpSpPr>
          <a:xfrm>
            <a:off x="5003640" y="5229360"/>
            <a:ext cx="2016000" cy="1080720"/>
            <a:chOff x="5003640" y="5229360"/>
            <a:chExt cx="2016000" cy="1080720"/>
          </a:xfrm>
        </p:grpSpPr>
        <p:sp>
          <p:nvSpPr>
            <p:cNvPr id="179" name=""/>
            <p:cNvSpPr/>
            <p:nvPr/>
          </p:nvSpPr>
          <p:spPr>
            <a:xfrm>
              <a:off x="5003640" y="5229360"/>
              <a:ext cx="2016000" cy="10807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"/>
                <p:cNvSpPr txBox="1"/>
                <p:nvPr/>
              </p:nvSpPr>
              <p:spPr>
                <a:xfrm>
                  <a:off x="5153400" y="5554080"/>
                  <a:ext cx="164232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08720" y="3573360"/>
                <a:ext cx="30668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2" name=""/>
          <p:cNvGrpSpPr/>
          <p:nvPr/>
        </p:nvGrpSpPr>
        <p:grpSpPr>
          <a:xfrm>
            <a:off x="6443640" y="4365720"/>
            <a:ext cx="2088720" cy="1008000"/>
            <a:chOff x="6443640" y="4365720"/>
            <a:chExt cx="2088720" cy="1008000"/>
          </a:xfrm>
        </p:grpSpPr>
        <p:sp>
          <p:nvSpPr>
            <p:cNvPr id="183" name=""/>
            <p:cNvSpPr/>
            <p:nvPr/>
          </p:nvSpPr>
          <p:spPr>
            <a:xfrm>
              <a:off x="6443640" y="4365720"/>
              <a:ext cx="2088720" cy="100800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6766200" y="4653000"/>
                  <a:ext cx="152712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5" name="">
            <a:hlinkClick r:id="" action="ppaction://hlinkshowjump?jump=nextslide"/>
            <a:hlinkClick r:id="rId3"/>
          </p:cNvPr>
          <p:cNvSpPr/>
          <p:nvPr/>
        </p:nvSpPr>
        <p:spPr>
          <a:xfrm>
            <a:off x="324000" y="333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3080" y="40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68360" y="4365720"/>
          <a:ext cx="3024000" cy="769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360" y="4365720"/>
                    <a:ext cx="302400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627280" y="1197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л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342900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ривед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16720" y="321300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епол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5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Существует 10 способов решения кадратных уравнений, мы рассмотрим с Вами самые основны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ыделение квадратного двучлен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ешение с помощью дискриминан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еорема Вие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еорема, обратная теореме Вие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Графический способ решения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 друг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3068640"/>
            <a:ext cx="4284720" cy="2160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65080" y="321300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826920" y="4149720"/>
          <a:ext cx="237492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149720"/>
                    <a:ext cx="237492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11280" y="3373560"/>
                <a:ext cx="32400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9" name=""/>
          <p:cNvGrpSpPr/>
          <p:nvPr/>
        </p:nvGrpSpPr>
        <p:grpSpPr>
          <a:xfrm>
            <a:off x="5580000" y="3429000"/>
            <a:ext cx="3097440" cy="1846440"/>
            <a:chOff x="5580000" y="3429000"/>
            <a:chExt cx="3097440" cy="1846440"/>
          </a:xfrm>
        </p:grpSpPr>
        <p:sp>
          <p:nvSpPr>
            <p:cNvPr id="200" name=""/>
            <p:cNvSpPr/>
            <p:nvPr/>
          </p:nvSpPr>
          <p:spPr>
            <a:xfrm>
              <a:off x="5580000" y="3502080"/>
              <a:ext cx="3097440" cy="17733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04000" y="34290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5867280" y="3646440"/>
                  <a:ext cx="2374920" cy="147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3" name=""/>
          <p:cNvGrpSpPr/>
          <p:nvPr/>
        </p:nvGrpSpPr>
        <p:grpSpPr>
          <a:xfrm>
            <a:off x="3419640" y="5345280"/>
            <a:ext cx="2571120" cy="1512720"/>
            <a:chOff x="3419640" y="5345280"/>
            <a:chExt cx="2571120" cy="1512720"/>
          </a:xfrm>
        </p:grpSpPr>
        <p:sp>
          <p:nvSpPr>
            <p:cNvPr id="204" name=""/>
            <p:cNvSpPr/>
            <p:nvPr/>
          </p:nvSpPr>
          <p:spPr>
            <a:xfrm>
              <a:off x="3419640" y="5345280"/>
              <a:ext cx="2571120" cy="15127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84360" y="5598000"/>
              <a:ext cx="103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&lt;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33200" y="6102000"/>
              <a:ext cx="217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ет  кор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116000" y="26028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Решение квадратного 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411280" y="765000"/>
            <a:ext cx="3529080" cy="1727280"/>
            <a:chOff x="2411280" y="765000"/>
            <a:chExt cx="3529080" cy="1727280"/>
          </a:xfrm>
        </p:grpSpPr>
        <p:sp>
          <p:nvSpPr>
            <p:cNvPr id="209" name=""/>
            <p:cNvSpPr/>
            <p:nvPr/>
          </p:nvSpPr>
          <p:spPr>
            <a:xfrm>
              <a:off x="2411280" y="765000"/>
              <a:ext cx="3529080" cy="17272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0" name=""/>
            <p:cNvGraphicFramePr/>
            <p:nvPr/>
          </p:nvGraphicFramePr>
          <p:xfrm>
            <a:off x="2555640" y="1197000"/>
            <a:ext cx="3095640" cy="78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55640" y="1197000"/>
                      <a:ext cx="309564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07:47:00Z</dcterms:created>
  <dc:creator>user</dc:creator>
  <dc:description/>
  <dc:language>en-US</dc:language>
  <cp:lastModifiedBy>Пользователь</cp:lastModifiedBy>
  <dcterms:modified xsi:type="dcterms:W3CDTF">2010-06-04T10:19:42Z</dcterms:modified>
  <cp:revision>44</cp:revision>
  <dc:subject/>
  <dc:title>Квадратные уравнения</dc:title>
</cp:coreProperties>
</file>